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E2A-C3E1-4617-ACD0-DE8B3E76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9D5-BE18-4C87-B744-7E3E2EA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8EB-9FFB-4760-896D-A72E0941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53A-4E97-4B77-974F-82DABB02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DC6-1108-4913-9E52-00099EC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95A-886D-4FD8-B154-CB57D7FA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689-E7EE-44CA-8AE4-AF23120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CF9-F541-46FB-BB1A-7FF3614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187-F9D2-47E0-ABF6-2C2C6AF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8A8-4B15-465F-9A18-492F7B0A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F11-5DAD-493C-856C-1C27A7E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20E-4FFF-49EC-B5F2-A824F1E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E1F4-9EE8-4971-AD18-FAA57A17C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n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ory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ntory Valu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Flow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ntor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 means goods or other items a firm holds for sale or for processing to produce finished goo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of inventory costs for a merchandising fi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, unpa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ntory 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quisition cost basis or Historical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price paid for the goods at the time of purc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rent cost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ment cost (Entry value) that a firm would have to pay for the goods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Realizable Value (Exit value) that a firm could realize in an arm’s-length transaction. Calculation: Estimated final sales price minus the estimated costs necessary to prepare the item for sale and to sell i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-of-cost-or-market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smaller of the two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st Flow 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st of goods sold could be calculated under different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O (first in, first 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ssumes that the early purchases were sold first and the ending inventory is valued at the most recen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O (last in, first 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ssumes that the latest items purchased were sold first and the ending inventory is valued at the early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ed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m calculates the average of the costs of all goods available for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07:43:39Z</dcterms:created>
  <dc:creator>ME</dc:creator>
  <dc:description/>
  <dc:language>en-US</dc:language>
  <cp:lastModifiedBy>ME</cp:lastModifiedBy>
  <dcterms:modified xsi:type="dcterms:W3CDTF">2004-07-28T16:14:17Z</dcterms:modified>
  <cp:revision>5</cp:revision>
  <dc:subject/>
  <dc:title>Inventories</dc:title>
</cp:coreProperties>
</file>